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7EB-9B30-4DEA-93EA-9E969F7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796-58D5-4149-A308-1DC72081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F34-5D61-4B87-AA83-DE8D952F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A27-3BED-4C22-BBA5-AAD52D92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28A-7834-43D1-8619-7B5B29A5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8D4-D8A9-4604-AAE5-99A8317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249-6D5B-471E-BC71-51080A0D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8A6-273D-4854-AB9B-F5D8E37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C9F-423A-4DFC-B289-77D0FFB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995-FB83-4552-8852-2A02D20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374-20D7-438A-943B-8651778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295-D256-4D8D-8F41-FF52D7D0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5EC2-B4CA-499B-ACA3-A555C2B0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Bradley Hand ITC"/>
              </a:rPr>
              <a:t>The Scientific Rev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Discoverin’ New Stuff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1625760"/>
            <a:ext cx="61722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Baskerville Old Face"/>
              </a:rPr>
              <a:t>Revolution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ers in 1500’s said you need Math an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a revolution in the way of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4526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askerville Old Face"/>
              </a:rPr>
              <a:t>People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: Polish, Had a heliocentric view point. With a circular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annes Kepler: German, agreed w/ Copernicus, said planets move in ellipses (ovals). Modern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Galilei: Italian, challenged modern beliefs of time, instruments are important to humans, went against catholic church’s views, take words back, house ar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67680" y="0"/>
            <a:ext cx="1876320" cy="2819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5943600" y="21333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315200" y="2362320"/>
            <a:ext cx="1828800" cy="229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210440" y="4486320"/>
            <a:ext cx="19335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Old English Text MT"/>
              </a:rPr>
              <a:t>The Early T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used/studied numbers, stars &amp; planets looking at their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cience is an organized study of the natural world &amp; how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99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Science= three differen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30960" y="990720"/>
            <a:ext cx="2813040" cy="327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378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3467160"/>
            <a:ext cx="4143600" cy="3390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radley Hand ITC"/>
              </a:rPr>
              <a:t>Ma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was used for two main things back in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038480" y="76212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ing of time by observing patterns in the sky/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keeping track of time they were able to predict seasonal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4800600" cy="343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381560" y="3828960"/>
            <a:ext cx="4762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tarted figuring out how to perform more accurate surg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nervous system by performing acu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bs, using them to help cure or treat ill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10400" y="304812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Early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572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s= reason is the only way to understand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veloped theories or an explanation of how/ why something happ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to be something you can observe, seems to fit, but not always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29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8320" y="3641760"/>
            <a:ext cx="4495680" cy="321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86400" y="2057400"/>
            <a:ext cx="3657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stotle (Gr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d nature and collected many things ( information &amp; i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lassified the different plants and animals into groups based on similarities and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4120" y="961920"/>
            <a:ext cx="27763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0000"/>
                </a:solidFill>
                <a:uFillTx/>
                <a:latin typeface="Chiller"/>
              </a:rPr>
              <a:t>Greek Proble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dn’t test or experiment new ideas to see if they were right/tr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ideas were false because they were based on “common sense”, not 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tolemy said that the planets and the Sun moved around the Earth (geocentric), learned about 1,400 years later he w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WRO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10160" y="3581280"/>
            <a:ext cx="2733840" cy="327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332400" y="60948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562720" y="32004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askerville Old Face"/>
              </a:rPr>
              <a:t>Middle 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6095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ople focused on theology rather than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Greek and Roman writing…no Goog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rabs and Jews preserved works. Indian and Persian math. No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100’s rise of science again in Eur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rise in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Exploration furthere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596412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6185E-006 L 0.8875 -0.00139 E">
                                      <p:cBhvr>
                                        <p:cTn id="2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16:44:14Z</dcterms:created>
  <dc:creator>jobert</dc:creator>
  <dc:description/>
  <dc:language>en-US</dc:language>
  <cp:lastModifiedBy>jobert</cp:lastModifiedBy>
  <dcterms:modified xsi:type="dcterms:W3CDTF">2012-12-16T22:15:55Z</dcterms:modified>
  <cp:revision>9</cp:revision>
  <dc:subject/>
  <dc:title>The Scientific Revolution</dc:title>
</cp:coreProperties>
</file>